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1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B4041-CDF3-4653-80BF-D8E33AF92F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D099B-0023-4926-8066-F1E88282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FCF470-51AA-4770-9B68-DE3A6268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F9B788-AAF4-48E0-84FB-363E114B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B35435-042C-47D8-AAE3-7A2520A1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D82125-93EC-47A1-8AB2-5CFA5740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81FF40-00E8-4D5B-9CD2-63394C3F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BB8BAD-CBEE-41AA-A92D-5F7B3D91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055645-F914-47EF-9FCF-1211A7A2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AC1E27-FECD-45B2-91CB-3FDABC8D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116559-4984-4979-862C-EA225AF49B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29B01-FC02-4B2E-977E-0166BB05D2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E473-1191-4141-9CF6-D8BA8DB3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1A47C-0A0A-42B6-A044-DEB37A64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DFB69-8BDC-41C0-9847-98BC5EB0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5D9BA-1F70-482C-8904-FE26E64A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D4C90-959A-4C9C-A04B-F0610C2B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8590C-9E92-4DE1-9591-046BDC51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028D6-3CF0-4E08-9E13-EF0195B1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BC6B6-5555-49CF-AC08-A73F35C9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EE7DF-D319-4F46-B126-08FD4BB6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2B4A7-FE46-4601-B7B6-AD618E1F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93D4A-3FC6-4917-B1A0-27C34631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DAE94-41E9-4061-9807-1C73428D12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2D8CC-9C51-4472-BFB8-9B28EB5810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E6B7FB-B852-4842-BC4D-B9EFAAE95D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075AD0-C76F-4D4B-B925-362D6562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06997A-EFDA-43E1-BF21-6500B606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311AA2-0966-4659-A8D7-281CC49A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2F28DC-AEBF-4624-9DDC-7FC51BD0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E2C7BE-5D92-4828-BBF6-0A13A832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124E65-AA41-41A7-A5DC-19C4947C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9B5202-4B7A-4A1F-A4F0-BD95C388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93C594-5AFC-4567-921A-F707B470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8F38E-4872-4578-8328-EE51155E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0AC2F6-92F8-4D70-80F6-B5E14A18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54341D-87B6-49BB-953B-AA69FFE3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DDD150-375F-4053-A684-B25DD154A2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8AF59-0EAC-41CF-B0DD-D8F2AD5379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D4E7B-7AD9-4F69-AB50-106FC6B6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50426-F007-4AC6-9661-A01905DE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D44C7-BA70-4E8E-9E61-CE9DDA5E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05070A-30CC-46F6-A54A-60D255F5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52E80-D724-4B30-9560-D736CE4E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1FC94D-F3EA-4059-94D4-1169E992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A51A6-9CDD-479A-9262-70A2DF23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EB8E5-D1B8-4D93-9AB1-7EEABEEE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8C733-957A-49F7-8ED5-270C3A7B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D8552-7A58-48C8-9FD2-03C4A016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77ECB-177B-45E5-BFC8-B70FF3FC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D9166-57BE-4C33-A703-1276E03472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FFBAE-4E64-4856-9E83-22FAF22646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16536-F1C1-4F84-84E5-EC9FB498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42C0F-0FC1-4892-9BF6-3F7C1110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31ACC-6C9B-4E00-AB36-135552E8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9C56F-2EA3-4283-979E-50F8EEA5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8F863-286C-4550-BD7D-20C116FB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1D323-DF33-4E71-919C-A8F64617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0C88F-A3E8-4455-AE59-4AFE67FB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37D9E-C613-48B0-8A41-F395A7A2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EC9B9-27C1-4205-8F70-DA35BDB9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DF362-FE5B-4F52-8B18-72B8A635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9143C-4FBE-42DA-9497-3C6D3EEF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4E8AA-1779-44FA-9636-CCDFDD2168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40CC7-79D8-4456-B666-E8D4C712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BB0A9-B2B9-4F17-9C7B-3DE2560D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7537D-15EE-415B-91A6-10ACA9D9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B8D62-9E7E-4DDF-8443-1726571B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FE792-13CA-496F-B0C6-EEE17EF8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CDA74-F319-45B9-B8EA-C17A3581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4C113-E0E2-47E7-A186-1DCF5A16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1FA69-CE71-48D3-90DA-9E97E852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D24AA-AB2C-446A-B15A-EE9AB3E2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753AF-ADA2-4532-9844-F034FB15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04501-050C-4FB8-9590-DA277958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5DAE9-389D-4D09-9DAE-287D4184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3B219-4A88-47C7-8654-32734047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3315E-5950-4057-B79E-F68BD355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434BD-EDC1-4E3C-9A54-9562C453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219BF-03E6-4547-A351-A6272734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E1D35-41E4-41A3-9BFC-5E71C582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82F01-C519-439F-A55A-7F06759B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8983B-B907-4573-9027-2C784853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FE890-C024-4419-A9A7-4DC03585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661DB-82C6-4502-835B-472A9AB0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1EF36-94B7-4F4F-90C2-D61E7B75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E3D77-8BFA-486E-825E-874B68FB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76A46-F4D3-417B-9361-43D5E643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78B2F-D7A5-4DCD-9D8C-60D335C1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54746-F9B5-4E3D-A997-779EBC5D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97F38-CC19-41A2-825D-4B1E321F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064D9-3448-4FA2-B489-3CE0FACD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5C02A-5762-47F2-AB73-C56B14B8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F1DCF-D702-449A-BBCC-0397065F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35355-ECD5-4E3F-8647-17F23399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F94B7-E856-4BC8-8774-8040AAFF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545D0-9D81-44B0-92DC-345A7A8F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507AE-62A7-4CD4-B89B-3B362C44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D4D57-2908-4831-A814-4913F1B5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2090B-9FA8-4459-9A5D-A5F6F4B5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D475A-D658-4A2A-A3CF-161AB58B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8DA54-84FB-4953-AC23-B5865801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2165C-6011-4D9B-943B-C3764542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32807-29D3-4542-AFEE-B5FBBC1C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F7319-0F63-4F93-BD23-3BD7F0B3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51025-6F9D-4989-9102-87702201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58DE0-F151-4381-99A4-9D55E51B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BCF29-00A0-4319-8ACA-AE929326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7B312-3D3A-43C6-8C12-5A6416D6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A4A20-67CB-41B8-95E1-5B356D75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BBC34-B552-4D22-AB19-27DAD8A3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81D6C-F33F-4AF5-9782-EF68017C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664DE-53EE-4E2A-895C-4C94DFCE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033B7-994F-4413-9BA6-3C8F4495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9A42F-5351-43F0-BB62-448D6D34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3CE7C-4E57-4523-8E2F-5F290869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3AF86-F320-4C0A-80F2-C1A3FCFE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09330-4714-46D9-A92F-D0535AC5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1F2037-7A98-435E-85FD-3CC3797F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2F20D-7E3B-42CE-90F2-163A63B5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4CC1E-AD15-4524-8606-B8A4874C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6A5A04-7BED-4C76-9FE2-2F13B183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DA9B8-4E69-4B9A-93CB-ABA1F84A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06CED-17B1-48F6-A947-CFEDA917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004A7-C1EA-44A5-BAB4-C3119F72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240FA-FD39-4056-A2B1-5F2EC5C1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7C40B-24F5-44B7-A198-61DA433C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F1DBB-8649-4694-A534-A0A87AFB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10349-5228-47D3-9A53-58B19616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C185D9-7DC5-453B-8462-A7495537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AB2E6B-63D3-4392-9B1D-8189CF5A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FCC659-05C6-4D4C-920F-099D5A1B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A4842-9ACB-4DC8-AFD8-31D994D6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C316E-774B-4584-96C6-F5007B48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9ADEB-B30A-43A7-959D-4AA6DF68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F74B9-E4E0-463E-B8FE-0E414CCE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80B7C-6780-4AD7-B1ED-F612803D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926552-7DAC-4121-BC50-C58A0D53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56ADB-9613-436B-B9DA-51C71B64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BFA0F-B354-4A29-8EBC-FB602AE1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50173E-9ADC-4102-832A-C41DF56C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ABAF00-BA9D-4BD6-A2C0-E4C3DB93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FAEE9F-C46E-4547-AA8C-BBA9F933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36F852-C566-4CBD-8120-B3621CCF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641F98-010B-44CB-9188-7B7E4C74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0807F-58B3-4ABA-B988-EDAB48FE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1B4699-535F-4814-91C7-7513768B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A24B98-6089-489D-AAF5-1C2CD690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7B11B-DE0B-4C27-B1D0-8885738E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395B0C-D65D-4024-9D31-CF57254A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815BE2-9919-4244-9B7B-00FA34A7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FE7CA3-5756-46FA-93ED-998346F7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365B1-67A3-422B-9EE4-D60F60FD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C8FB8-9FC6-4DE2-A74A-4FEF3487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394394-EEC4-4F63-B1C3-48D80C2A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A0DE15-CC1E-4CB1-8451-FF794C35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6B06D-CEAE-4A19-AC8A-983D5031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868AF-8A89-47B6-85D1-462AA331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2D4E57-DEDE-4309-876F-2BA29666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F92979-89A7-4550-92DE-4A9DBB70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60CE4E-DBC7-473E-9D40-6753DDD7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FC4ED-F0EB-43BB-9CA9-C3254024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3E3D8-A2D1-43C7-A608-06EED9D4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707632-B8DD-4457-B747-92F1CBB7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6B5DE1-61D1-465E-A6F0-BD7F7CDD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155E78-B0DF-4196-980E-4AA95E72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69EE9-0C65-4775-AFE2-2AE39A32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6ADBA-B2EB-4C1E-A8E6-7F1EC639D6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EEF275-255E-4BBB-ADA8-0BA71E6B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5A32AE-A293-4B52-9942-D0C867D3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83BFE-71E4-4C5E-BB56-A86B3B58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8D5BA5-8F18-4204-92C6-3F259AF1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AB98D2-1310-4EBB-9CD0-3F48C906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C9CA82-32AC-4244-AE3F-24C706BA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9D03DB-36D7-4823-B4AE-D5F36DB6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FB3A67-AEE6-4C77-B14A-16F35D52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6838DE-0B10-481C-A71B-2CA093A4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70B452-E387-4953-9CAB-B5C45C0C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497D2F-52F2-49AC-83CF-99DCC147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DA0DE-B432-426A-89C0-FFF89E1E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1DBF37-1D06-4422-823D-7F76967A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432AE7-47E1-41A9-831C-9812B82D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A2492C-8A34-428E-B758-2CB3F5C5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CCA884-1A6F-4006-B0E1-E6CB72B1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0693ED-2B81-41A0-98CB-98696116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5F2E34-BE63-44A3-BD03-A995B9DE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EB93E8-69D8-451D-AFB6-A995B78C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DD6D88-EF33-4DBC-8E1F-9EC6634D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47133C-5E26-4877-BCA6-0736EF27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99C895-8E25-46A5-BA55-8F4D5941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36A476-3098-4E49-8157-AB05DE50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3CFC32-2546-4837-9691-D7C7627D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06B785-531D-4902-8A9B-AE38C4DC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81B58B-EF17-4BE8-8216-355AB23A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FB6410-1FE1-4A72-9FDF-18F1FED5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DF4FE0-13D4-4B56-A4A0-44DF658D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4627EB-FB7E-4C25-9557-7DE4DDB6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C5372C-A5B7-4810-BDA6-DDE82AEA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160E02-A2C9-46EC-B79B-FC7A54C7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AAD1E-94FC-4E5C-B30D-F8021631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E75BFA-FD4C-4345-9197-BC3BE129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0D3A75-ED2B-4CB7-B26D-AE4705D5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CB0373-1379-4D62-A83B-186969AE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895AE7-71E9-43C1-ACA6-B3D8BBE6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BA0517-5CCB-4A87-A8FB-FFE077A3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DCBE27-5F35-48AD-AA90-09065F89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2BEA25-9C66-4452-8255-05CC5FD9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607246-7F24-4491-9E2F-5D8E96EF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CB5CE5-A771-4D41-9585-7A97EB3D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B48C9-5007-4A76-8FDB-25605E5B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49BB49-EF38-43E7-80F9-E6D793AE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546EE-B509-4E37-BF60-C00EC86E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3DDBC0-C03A-4189-B364-9A9E02AB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0E504B-9A82-4BCF-B141-1DC66B86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A50F2F-E2B1-45BE-BB5D-CCE0F30E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155909-D7A2-4CA9-834E-F62E8E0C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B8B2F4-CE62-414E-96DF-F98EA829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BB1494-E74A-4CD2-AA59-455455E6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A63112-74DA-4FA3-935D-F7CFE3FF3F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2D0AC-6ACF-4104-9E8B-029EF9B95A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A16D6-A534-42D0-85C2-6003EF6F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8D26D-808F-4963-8D82-E1CD221E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8DA71-3D80-4430-9178-4E4448F7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4A2FA-098A-4159-BA54-E498C891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96144-C972-4056-BC98-F2C8BF85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B4100-6FB4-4BB3-9277-396C888D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5CA64-4C2D-4DF8-BC43-30132AAF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ADE4D-1438-4C07-9433-75CD9335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3F6CE-AF7A-487A-88B6-8931BF85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D8E3-8D6B-451A-8B0D-6FB0D3F2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1FB24-0925-4742-8F50-0DC31CB0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9897D-BFBE-4913-B24C-9DADFB46D1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6471B-78A3-4715-AC09-E143C81134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FDC98-5CA2-4AD6-A54B-FE436CA5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1F6D2-3C1F-4A7B-BE0E-EC76CA6C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F1E166-A94F-4F69-AF17-4A72A2BF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BCB960-AA67-44C7-8D70-2FAE0A31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37E55A-8C7A-4F48-96A9-D32329B5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512750-161A-4EF4-B158-FEE044CD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1B4D14-BD1D-4118-B89B-851F16DD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9DC967-497D-4776-B711-B7BE8FD2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DF2190-46D3-4088-B36E-5063CF67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BE80A-A2DA-4AF5-8382-CF486673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2F53CF-D7DF-4585-B81D-85233A6A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4EAA7-B7BB-4F58-B72A-1E7648DE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C006B-58D2-4887-80D1-C835AA7CA2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27C98B-5E66-4A31-A3B5-20032AE207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5C3193-A421-4A1D-A40D-0EFCF63F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B87518-9D7E-498E-89B0-D7DAF650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443AEE-5FC9-448B-8520-593F5A79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0A4C48-1588-452C-BC93-419A2E71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BA1356-A488-4F89-99F3-55F89D41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493612-FC86-4719-898D-48210B9C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F7517E-77F5-41F6-9075-BD1F5CE9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07446F-D7CB-4C15-958C-0E9E8B30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0AEFA-E588-4385-A43E-E78990C1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B89858-527D-4B69-AB7F-CED2F13E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6B4C99-8442-4085-9ABC-602F878E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21A7DC-F9AD-4E64-8138-98F142B60B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EA143-DD55-4B15-9864-C510689FE0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58FEE-4A46-4F87-A608-1BBD7C91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03489-32A4-4604-843D-5295B409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ED674-998C-4A9E-BA98-86CA5FF6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0F416-4BA8-4764-BDBA-E8CD6A34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79C0C-3B42-4E20-8473-97B94874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71508-E64F-40B7-81AA-F925F098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614C6-5C9D-4C87-B8DC-17AABFCB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7E057-6E6F-4B1F-B126-FA4F3F68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02026-A0BA-4A9A-A2E4-95BDE13F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99173-F839-4798-93ED-8D3E1617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ACDDB-CD4D-4DB2-9D19-76C38803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60727-58F2-4B79-A9C0-EEA1CF6C75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22AE6E-CD04-404A-A221-7760324326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4BD3C8-A728-4525-AEDD-BA1E7B3E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C9289-31E9-4464-946B-76337F4C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281CE3-411A-494E-BC5F-E452B2FD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5B0999-2CDD-4481-B38D-F2E0EA45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D316D-09F6-45AB-A8CA-BE73908C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556620-9D24-4C2C-B67F-231B12DC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08FBF-5ACB-433D-BDF9-C4AF88EE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D66A0-CFC6-4118-A85B-35EA4940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13D2A-B799-4EE9-9528-A05214A1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72436-E265-48D1-962D-2D3E3D75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FAE11-92DC-4D4C-9E26-52B04146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363DA-4EA6-4721-87D3-E75DFDB6E9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27932D-1769-4D1D-8B85-7447D7BED6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A1D5B4-C611-4915-922C-6774D21C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0D7A30-D127-4ECB-B080-F7CB877B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53BA-D41F-4784-B852-C93D15F064D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7682-B362-4F54-BD56-BF2CA515822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F051-4155-4FA2-BE53-68348ADC759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8673-4886-4318-B2ED-0040795E715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2172-D3E0-477F-A522-18D05AEB4C4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417D-D9FB-4DD5-A766-B625836835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235A-4705-4893-B9CE-939FE85810A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1A52-BBF3-479B-AD87-AC895CA86A5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649F-0DC0-4F9D-AE34-1A3242777E5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B896-A0BE-4C2C-888E-6F5B2AA4ED2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B964-D987-48F0-BA40-07AC1E6E3EA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395B-52C3-4307-8657-3B8B0CB69E8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C50B-420C-4245-9766-133CBC74D25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5B23-5BB9-4A90-9B30-B1BA09B056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F338-D047-467E-9A21-B29C9DA5E02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906F-0096-4AC6-AA98-BD664398601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CF91-639B-4403-9324-581EC7857FF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38DD-5B6D-452E-9632-392A9445888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6308-A8FD-4435-8E30-DEDEBF831F3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3DF4-663E-4CB1-BD8F-9CDC87FBA0E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6269-0A25-4D49-AC23-EDA6F9BA0AA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AA1E-8572-4517-9591-CFAE8C3812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24F8-5B13-46BA-B55C-4D8DA397C83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EE96-2E73-457A-A0FF-A50546FF8CE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image" Target="../media/image27.jpeg"/><Relationship Id="rId9" Type="http://schemas.openxmlformats.org/officeDocument/2006/relationships/image" Target="../media/image27.jpe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29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image" Target="../media/image29.jpeg"/><Relationship Id="rId13" Type="http://schemas.openxmlformats.org/officeDocument/2006/relationships/image" Target="../media/image29.jpe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487600" y="27558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比 多 少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738360" y="1816200"/>
            <a:ext cx="61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准 备 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5" name="组合 10241"/>
          <p:cNvGrpSpPr/>
          <p:nvPr/>
        </p:nvGrpSpPr>
        <p:grpSpPr>
          <a:xfrm>
            <a:off x="1476360" y="1989000"/>
            <a:ext cx="5553000" cy="2232000"/>
            <a:chOff x="1476360" y="1989000"/>
            <a:chExt cx="5553000" cy="2232000"/>
          </a:xfrm>
        </p:grpSpPr>
        <p:pic>
          <p:nvPicPr>
            <p:cNvPr id="1226" name="内容占位符 10242" descr="untitledttyy"/>
            <p:cNvPicPr/>
            <p:nvPr/>
          </p:nvPicPr>
          <p:blipFill>
            <a:blip r:embed="rId1"/>
            <a:stretch/>
          </p:blipFill>
          <p:spPr>
            <a:xfrm>
              <a:off x="1476360" y="1989000"/>
              <a:ext cx="55530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7" name="矩形 10243"/>
            <p:cNvSpPr/>
            <p:nvPr/>
          </p:nvSpPr>
          <p:spPr>
            <a:xfrm>
              <a:off x="3276360" y="3503520"/>
              <a:ext cx="574560" cy="57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矩形 10244"/>
            <p:cNvSpPr/>
            <p:nvPr/>
          </p:nvSpPr>
          <p:spPr>
            <a:xfrm>
              <a:off x="5651280" y="3503520"/>
              <a:ext cx="576360" cy="57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TextBox 2"/>
          <p:cNvSpPr/>
          <p:nvPr/>
        </p:nvSpPr>
        <p:spPr>
          <a:xfrm>
            <a:off x="611280" y="112536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多的后面画“√ 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文本框 10246"/>
          <p:cNvSpPr/>
          <p:nvPr/>
        </p:nvSpPr>
        <p:spPr>
          <a:xfrm>
            <a:off x="3357720" y="35020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232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3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234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5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6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7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8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9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0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横卷形 4097"/>
          <p:cNvSpPr/>
          <p:nvPr/>
        </p:nvSpPr>
        <p:spPr>
          <a:xfrm>
            <a:off x="3203640" y="835200"/>
            <a:ext cx="2593800" cy="12967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92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比 多 少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Picture 4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4978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01" name="组合 2"/>
          <p:cNvGrpSpPr/>
          <p:nvPr/>
        </p:nvGrpSpPr>
        <p:grpSpPr>
          <a:xfrm>
            <a:off x="0" y="115920"/>
            <a:ext cx="5970600" cy="566640"/>
            <a:chOff x="0" y="115920"/>
            <a:chExt cx="5970600" cy="566640"/>
          </a:xfrm>
        </p:grpSpPr>
        <p:pic>
          <p:nvPicPr>
            <p:cNvPr id="1002" name="圆角矩形 5" descr=""/>
            <p:cNvPicPr/>
            <p:nvPr/>
          </p:nvPicPr>
          <p:blipFill>
            <a:blip r:embed="rId2"/>
            <a:stretch/>
          </p:blipFill>
          <p:spPr>
            <a:xfrm>
              <a:off x="301320" y="115920"/>
              <a:ext cx="5669280" cy="56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3" name="组合 4"/>
            <p:cNvGrpSpPr/>
            <p:nvPr/>
          </p:nvGrpSpPr>
          <p:grpSpPr>
            <a:xfrm>
              <a:off x="0" y="217800"/>
              <a:ext cx="799920" cy="298800"/>
              <a:chOff x="0" y="217800"/>
              <a:chExt cx="799920" cy="298800"/>
            </a:xfrm>
          </p:grpSpPr>
          <p:sp>
            <p:nvSpPr>
              <p:cNvPr id="1004" name="椭圆 11"/>
              <p:cNvSpPr/>
              <p:nvPr/>
            </p:nvSpPr>
            <p:spPr>
              <a:xfrm rot="16200000">
                <a:off x="309960" y="381960"/>
                <a:ext cx="118080" cy="15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5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552240" y="306720"/>
                <a:ext cx="247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6" name="椭圆 29"/>
              <p:cNvSpPr/>
              <p:nvPr/>
            </p:nvSpPr>
            <p:spPr>
              <a:xfrm rot="16200000">
                <a:off x="309960" y="230760"/>
                <a:ext cx="118080" cy="15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7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552240" y="227880"/>
                <a:ext cx="247680" cy="7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7880"/>
                <a:ext cx="721440" cy="6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98080"/>
                <a:ext cx="721440" cy="6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37240"/>
                <a:ext cx="721440" cy="6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1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17800"/>
                <a:ext cx="721440" cy="6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2" name="文本框 4100"/>
          <p:cNvSpPr/>
          <p:nvPr/>
        </p:nvSpPr>
        <p:spPr>
          <a:xfrm>
            <a:off x="969840" y="117360"/>
            <a:ext cx="547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、探究新知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187280" y="2709360"/>
            <a:ext cx="108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 baseline="30000">
                <a:solidFill>
                  <a:srgbClr val="000000"/>
                </a:solidFill>
                <a:latin typeface="Arial"/>
              </a:rPr>
              <a:t>. .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5122"/>
          <p:cNvGrpSpPr/>
          <p:nvPr/>
        </p:nvGrpSpPr>
        <p:grpSpPr>
          <a:xfrm>
            <a:off x="1044720" y="1341360"/>
            <a:ext cx="6865920" cy="1436760"/>
            <a:chOff x="1044720" y="1341360"/>
            <a:chExt cx="6865920" cy="1436760"/>
          </a:xfrm>
        </p:grpSpPr>
        <p:pic>
          <p:nvPicPr>
            <p:cNvPr id="1015" name="内容占位符 5123" descr="4f12e14d93f0d[1]"/>
            <p:cNvPicPr/>
            <p:nvPr/>
          </p:nvPicPr>
          <p:blipFill>
            <a:blip r:embed="rId1"/>
            <a:stretch/>
          </p:blipFill>
          <p:spPr>
            <a:xfrm>
              <a:off x="1044720" y="1341360"/>
              <a:ext cx="1394640" cy="14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内容占位符 5124" descr="4f12e14d93f0d[1]"/>
            <p:cNvPicPr/>
            <p:nvPr/>
          </p:nvPicPr>
          <p:blipFill>
            <a:blip r:embed="rId2"/>
            <a:stretch/>
          </p:blipFill>
          <p:spPr>
            <a:xfrm>
              <a:off x="4716000" y="1341360"/>
              <a:ext cx="1394640" cy="14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内容占位符 5125" descr="4f12e14d93f0d[1]"/>
            <p:cNvPicPr/>
            <p:nvPr/>
          </p:nvPicPr>
          <p:blipFill>
            <a:blip r:embed="rId3"/>
            <a:stretch/>
          </p:blipFill>
          <p:spPr>
            <a:xfrm>
              <a:off x="2844360" y="1341360"/>
              <a:ext cx="1394640" cy="14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内容占位符 5126" descr="4f12e14d93f0d[1]"/>
            <p:cNvPicPr/>
            <p:nvPr/>
          </p:nvPicPr>
          <p:blipFill>
            <a:blip r:embed="rId4"/>
            <a:stretch/>
          </p:blipFill>
          <p:spPr>
            <a:xfrm>
              <a:off x="6516000" y="1341360"/>
              <a:ext cx="139464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9" name="矩形 5127"/>
          <p:cNvSpPr/>
          <p:nvPr/>
        </p:nvSpPr>
        <p:spPr>
          <a:xfrm>
            <a:off x="2987640" y="2709720"/>
            <a:ext cx="108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. .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5128"/>
          <p:cNvSpPr/>
          <p:nvPr/>
        </p:nvSpPr>
        <p:spPr>
          <a:xfrm>
            <a:off x="4861080" y="2781360"/>
            <a:ext cx="107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. .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5129"/>
          <p:cNvSpPr/>
          <p:nvPr/>
        </p:nvSpPr>
        <p:spPr>
          <a:xfrm>
            <a:off x="6661080" y="2781360"/>
            <a:ext cx="10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. .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组合 5130"/>
          <p:cNvGrpSpPr/>
          <p:nvPr/>
        </p:nvGrpSpPr>
        <p:grpSpPr>
          <a:xfrm>
            <a:off x="1116000" y="3645000"/>
            <a:ext cx="6786720" cy="1028520"/>
            <a:chOff x="1116000" y="3645000"/>
            <a:chExt cx="6786720" cy="1028520"/>
          </a:xfrm>
        </p:grpSpPr>
        <p:pic>
          <p:nvPicPr>
            <p:cNvPr id="1023" name="图片 5131" descr="untitled"/>
            <p:cNvPicPr/>
            <p:nvPr/>
          </p:nvPicPr>
          <p:blipFill>
            <a:blip r:embed="rId5"/>
            <a:stretch/>
          </p:blipFill>
          <p:spPr>
            <a:xfrm>
              <a:off x="1116000" y="3645000"/>
              <a:ext cx="131436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图片 5132" descr="untitled"/>
            <p:cNvPicPr/>
            <p:nvPr/>
          </p:nvPicPr>
          <p:blipFill>
            <a:blip r:embed="rId6"/>
            <a:stretch/>
          </p:blipFill>
          <p:spPr>
            <a:xfrm>
              <a:off x="2916000" y="3645000"/>
              <a:ext cx="131436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图片 5133" descr="untitled"/>
            <p:cNvPicPr/>
            <p:nvPr/>
          </p:nvPicPr>
          <p:blipFill>
            <a:blip r:embed="rId7"/>
            <a:stretch/>
          </p:blipFill>
          <p:spPr>
            <a:xfrm>
              <a:off x="4788000" y="3645000"/>
              <a:ext cx="131436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图片 5134" descr="untitled"/>
            <p:cNvPicPr/>
            <p:nvPr/>
          </p:nvPicPr>
          <p:blipFill>
            <a:blip r:embed="rId8"/>
            <a:stretch/>
          </p:blipFill>
          <p:spPr>
            <a:xfrm>
              <a:off x="6588360" y="3645000"/>
              <a:ext cx="1314360" cy="102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7" name="图片 5135" descr="4f12e14d93f0d[1]"/>
          <p:cNvPicPr/>
          <p:nvPr/>
        </p:nvPicPr>
        <p:blipFill>
          <a:blip r:embed="rId9"/>
          <a:stretch/>
        </p:blipFill>
        <p:spPr>
          <a:xfrm>
            <a:off x="1187280" y="5086440"/>
            <a:ext cx="792360" cy="814320"/>
          </a:xfrm>
          <a:prstGeom prst="rect">
            <a:avLst/>
          </a:prstGeom>
          <a:ln w="0">
            <a:noFill/>
          </a:ln>
        </p:spPr>
      </p:pic>
      <p:sp>
        <p:nvSpPr>
          <p:cNvPr id="1028" name="矩形 5136"/>
          <p:cNvSpPr/>
          <p:nvPr/>
        </p:nvSpPr>
        <p:spPr>
          <a:xfrm>
            <a:off x="1835280" y="5013360"/>
            <a:ext cx="108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图片 5137" descr="untitled"/>
          <p:cNvPicPr/>
          <p:nvPr/>
        </p:nvPicPr>
        <p:blipFill>
          <a:blip r:embed="rId10"/>
          <a:stretch/>
        </p:blipFill>
        <p:spPr>
          <a:xfrm>
            <a:off x="2700360" y="5229360"/>
            <a:ext cx="946080" cy="741240"/>
          </a:xfrm>
          <a:prstGeom prst="rect">
            <a:avLst/>
          </a:prstGeom>
          <a:ln w="0">
            <a:noFill/>
          </a:ln>
        </p:spPr>
      </p:pic>
      <p:sp>
        <p:nvSpPr>
          <p:cNvPr id="1030" name="矩形 5138"/>
          <p:cNvSpPr/>
          <p:nvPr/>
        </p:nvSpPr>
        <p:spPr>
          <a:xfrm>
            <a:off x="3635280" y="5302080"/>
            <a:ext cx="1876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同样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032" name="圆角矩形 5" descr=""/>
            <p:cNvPicPr/>
            <p:nvPr/>
          </p:nvPicPr>
          <p:blipFill>
            <a:blip r:embed="rId11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3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34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5" name="椭圆 13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6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7" name="椭圆 30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31" descr=""/>
              <p:cNvPicPr/>
              <p:nvPr/>
            </p:nvPicPr>
            <p:blipFill>
              <a:blip r:embed="rId14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32" descr=""/>
              <p:cNvPicPr/>
              <p:nvPr/>
            </p:nvPicPr>
            <p:blipFill>
              <a:blip r:embed="rId15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33" descr=""/>
              <p:cNvPicPr/>
              <p:nvPr/>
            </p:nvPicPr>
            <p:blipFill>
              <a:blip r:embed="rId16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"/>
                            </p:stCondLst>
                            <p:childTnLst>
                              <p:par>
                                <p:cTn id="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组合 6145"/>
          <p:cNvGrpSpPr/>
          <p:nvPr/>
        </p:nvGrpSpPr>
        <p:grpSpPr>
          <a:xfrm>
            <a:off x="1476360" y="1341360"/>
            <a:ext cx="5759280" cy="1087560"/>
            <a:chOff x="1476360" y="1341360"/>
            <a:chExt cx="5759280" cy="1087560"/>
          </a:xfrm>
        </p:grpSpPr>
        <p:pic>
          <p:nvPicPr>
            <p:cNvPr id="1043" name="图片 6146" descr="2006423174133458[1]"/>
            <p:cNvPicPr/>
            <p:nvPr/>
          </p:nvPicPr>
          <p:blipFill>
            <a:blip r:embed="rId1"/>
            <a:stretch/>
          </p:blipFill>
          <p:spPr>
            <a:xfrm>
              <a:off x="1476360" y="1341360"/>
              <a:ext cx="1079640" cy="10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图片 6147" descr="2006423174133458[1]"/>
            <p:cNvPicPr/>
            <p:nvPr/>
          </p:nvPicPr>
          <p:blipFill>
            <a:blip r:embed="rId2"/>
            <a:stretch/>
          </p:blipFill>
          <p:spPr>
            <a:xfrm>
              <a:off x="6156000" y="1341360"/>
              <a:ext cx="1079640" cy="10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图片 6148" descr="2006423174133458[1]"/>
            <p:cNvPicPr/>
            <p:nvPr/>
          </p:nvPicPr>
          <p:blipFill>
            <a:blip r:embed="rId3"/>
            <a:stretch/>
          </p:blipFill>
          <p:spPr>
            <a:xfrm>
              <a:off x="3060360" y="1341360"/>
              <a:ext cx="1079640" cy="10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图片 6149" descr="2006423174133458[1]"/>
            <p:cNvPicPr/>
            <p:nvPr/>
          </p:nvPicPr>
          <p:blipFill>
            <a:blip r:embed="rId4"/>
            <a:stretch/>
          </p:blipFill>
          <p:spPr>
            <a:xfrm>
              <a:off x="4644360" y="1341360"/>
              <a:ext cx="1079640" cy="108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矩形 6150"/>
          <p:cNvSpPr/>
          <p:nvPr/>
        </p:nvSpPr>
        <p:spPr>
          <a:xfrm>
            <a:off x="1476360" y="2421000"/>
            <a:ext cx="10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. .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6151"/>
          <p:cNvSpPr/>
          <p:nvPr/>
        </p:nvSpPr>
        <p:spPr>
          <a:xfrm>
            <a:off x="6084720" y="2421000"/>
            <a:ext cx="10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. .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6152"/>
          <p:cNvSpPr/>
          <p:nvPr/>
        </p:nvSpPr>
        <p:spPr>
          <a:xfrm>
            <a:off x="4645080" y="2421000"/>
            <a:ext cx="107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. .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6153"/>
          <p:cNvSpPr/>
          <p:nvPr/>
        </p:nvSpPr>
        <p:spPr>
          <a:xfrm>
            <a:off x="3060720" y="2421000"/>
            <a:ext cx="10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. .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组合 6154"/>
          <p:cNvGrpSpPr/>
          <p:nvPr/>
        </p:nvGrpSpPr>
        <p:grpSpPr>
          <a:xfrm>
            <a:off x="1547640" y="3357720"/>
            <a:ext cx="5621400" cy="1034640"/>
            <a:chOff x="1547640" y="3357720"/>
            <a:chExt cx="5621400" cy="1034640"/>
          </a:xfrm>
        </p:grpSpPr>
        <p:pic>
          <p:nvPicPr>
            <p:cNvPr id="1052" name="图片 6155" descr="10023-11050Q50U563[1]"/>
            <p:cNvPicPr/>
            <p:nvPr/>
          </p:nvPicPr>
          <p:blipFill>
            <a:blip r:embed="rId5"/>
            <a:stretch/>
          </p:blipFill>
          <p:spPr>
            <a:xfrm>
              <a:off x="1547640" y="3357720"/>
              <a:ext cx="1084680" cy="96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图片 6156" descr="10023-11050Q50U563[1]"/>
            <p:cNvPicPr/>
            <p:nvPr/>
          </p:nvPicPr>
          <p:blipFill>
            <a:blip r:embed="rId6"/>
            <a:stretch/>
          </p:blipFill>
          <p:spPr>
            <a:xfrm>
              <a:off x="3059640" y="3429000"/>
              <a:ext cx="1084320" cy="96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图片 6157" descr="10023-11050Q50U563[1]"/>
            <p:cNvPicPr/>
            <p:nvPr/>
          </p:nvPicPr>
          <p:blipFill>
            <a:blip r:embed="rId7"/>
            <a:stretch/>
          </p:blipFill>
          <p:spPr>
            <a:xfrm>
              <a:off x="4644000" y="3429000"/>
              <a:ext cx="1084680" cy="96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图片 6158" descr="10023-11050Q50U563[1]"/>
            <p:cNvPicPr/>
            <p:nvPr/>
          </p:nvPicPr>
          <p:blipFill>
            <a:blip r:embed="rId8"/>
            <a:stretch/>
          </p:blipFill>
          <p:spPr>
            <a:xfrm>
              <a:off x="6084360" y="3429000"/>
              <a:ext cx="1084680" cy="96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6" name="图片 6159" descr="2006423174133458[1]"/>
          <p:cNvPicPr/>
          <p:nvPr/>
        </p:nvPicPr>
        <p:blipFill>
          <a:blip r:embed="rId9"/>
          <a:stretch/>
        </p:blipFill>
        <p:spPr>
          <a:xfrm>
            <a:off x="1477800" y="4890960"/>
            <a:ext cx="893880" cy="90036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6160" descr="10023-11050Q50U563[1]"/>
          <p:cNvPicPr/>
          <p:nvPr/>
        </p:nvPicPr>
        <p:blipFill>
          <a:blip r:embed="rId10"/>
          <a:stretch/>
        </p:blipFill>
        <p:spPr>
          <a:xfrm>
            <a:off x="3203640" y="4941720"/>
            <a:ext cx="896760" cy="797040"/>
          </a:xfrm>
          <a:prstGeom prst="rect">
            <a:avLst/>
          </a:prstGeom>
          <a:ln w="0">
            <a:noFill/>
          </a:ln>
        </p:spPr>
      </p:pic>
      <p:sp>
        <p:nvSpPr>
          <p:cNvPr id="1058" name="矩形 6161"/>
          <p:cNvSpPr/>
          <p:nvPr/>
        </p:nvSpPr>
        <p:spPr>
          <a:xfrm>
            <a:off x="2268360" y="4797360"/>
            <a:ext cx="10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6162"/>
          <p:cNvSpPr/>
          <p:nvPr/>
        </p:nvSpPr>
        <p:spPr>
          <a:xfrm>
            <a:off x="4068720" y="5084640"/>
            <a:ext cx="18748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同样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061" name="圆角矩形 5" descr=""/>
            <p:cNvPicPr/>
            <p:nvPr/>
          </p:nvPicPr>
          <p:blipFill>
            <a:blip r:embed="rId11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2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63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4" name="椭圆 13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5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椭圆 30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7" name="圆角矩形 31" descr=""/>
              <p:cNvPicPr/>
              <p:nvPr/>
            </p:nvPicPr>
            <p:blipFill>
              <a:blip r:embed="rId14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8" name="圆角矩形 32" descr=""/>
              <p:cNvPicPr/>
              <p:nvPr/>
            </p:nvPicPr>
            <p:blipFill>
              <a:blip r:embed="rId15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9" name="圆角矩形 33" descr=""/>
              <p:cNvPicPr/>
              <p:nvPr/>
            </p:nvPicPr>
            <p:blipFill>
              <a:blip r:embed="rId16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0" name="圆角矩形 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4" descr=""/>
          <p:cNvPicPr/>
          <p:nvPr/>
        </p:nvPicPr>
        <p:blipFill>
          <a:blip r:embed="rId1"/>
          <a:stretch/>
        </p:blipFill>
        <p:spPr>
          <a:xfrm>
            <a:off x="395280" y="693720"/>
            <a:ext cx="8497800" cy="4321080"/>
          </a:xfrm>
          <a:prstGeom prst="rect">
            <a:avLst/>
          </a:prstGeom>
          <a:ln w="0">
            <a:noFill/>
          </a:ln>
        </p:spPr>
      </p:pic>
      <p:sp>
        <p:nvSpPr>
          <p:cNvPr id="1072" name="横卷形 7170"/>
          <p:cNvSpPr/>
          <p:nvPr/>
        </p:nvSpPr>
        <p:spPr>
          <a:xfrm>
            <a:off x="3203640" y="622440"/>
            <a:ext cx="2593800" cy="1152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492360" y="764640"/>
            <a:ext cx="216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比 多 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7172"/>
          <p:cNvSpPr/>
          <p:nvPr/>
        </p:nvSpPr>
        <p:spPr>
          <a:xfrm>
            <a:off x="2268360" y="5302080"/>
            <a:ext cx="3456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图中还可以比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椭圆形标注 7173"/>
          <p:cNvSpPr/>
          <p:nvPr/>
        </p:nvSpPr>
        <p:spPr>
          <a:xfrm>
            <a:off x="1979640" y="5229360"/>
            <a:ext cx="3887640" cy="865080"/>
          </a:xfrm>
          <a:prstGeom prst="wedgeEllipseCallout">
            <a:avLst>
              <a:gd name="adj1" fmla="val 61300"/>
              <a:gd name="adj2" fmla="val 55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图片 7174" descr="201565-120gz0464299[1]"/>
          <p:cNvPicPr/>
          <p:nvPr/>
        </p:nvPicPr>
        <p:blipFill>
          <a:blip r:embed="rId2"/>
          <a:stretch/>
        </p:blipFill>
        <p:spPr>
          <a:xfrm>
            <a:off x="6588000" y="5302080"/>
            <a:ext cx="1657440" cy="1165320"/>
          </a:xfrm>
          <a:prstGeom prst="rect">
            <a:avLst/>
          </a:prstGeom>
          <a:ln w="0">
            <a:noFill/>
          </a:ln>
        </p:spPr>
      </p:pic>
      <p:grpSp>
        <p:nvGrpSpPr>
          <p:cNvPr id="1077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078" name="圆角矩形 5" descr=""/>
            <p:cNvPicPr/>
            <p:nvPr/>
          </p:nvPicPr>
          <p:blipFill>
            <a:blip r:embed="rId3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9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80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1" name="椭圆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3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4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948000" y="1844280"/>
            <a:ext cx="115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图片 8194" descr="0860170027[1]"/>
          <p:cNvPicPr/>
          <p:nvPr/>
        </p:nvPicPr>
        <p:blipFill>
          <a:blip r:embed="rId1"/>
          <a:stretch/>
        </p:blipFill>
        <p:spPr>
          <a:xfrm>
            <a:off x="3708360" y="1917720"/>
            <a:ext cx="1028880" cy="1204920"/>
          </a:xfrm>
          <a:prstGeom prst="rect">
            <a:avLst/>
          </a:prstGeom>
          <a:ln w="0">
            <a:noFill/>
          </a:ln>
        </p:spPr>
      </p:pic>
      <p:pic>
        <p:nvPicPr>
          <p:cNvPr id="1090" name="图片 8195" descr="0860170027[1]"/>
          <p:cNvPicPr/>
          <p:nvPr/>
        </p:nvPicPr>
        <p:blipFill>
          <a:blip r:embed="rId2"/>
          <a:stretch/>
        </p:blipFill>
        <p:spPr>
          <a:xfrm>
            <a:off x="2340000" y="1917720"/>
            <a:ext cx="1028520" cy="1204920"/>
          </a:xfrm>
          <a:prstGeom prst="rect">
            <a:avLst/>
          </a:prstGeom>
          <a:ln w="0">
            <a:noFill/>
          </a:ln>
        </p:spPr>
      </p:pic>
      <p:pic>
        <p:nvPicPr>
          <p:cNvPr id="1091" name="图片 8196" descr="0860170027[1]"/>
          <p:cNvPicPr/>
          <p:nvPr/>
        </p:nvPicPr>
        <p:blipFill>
          <a:blip r:embed="rId3"/>
          <a:stretch/>
        </p:blipFill>
        <p:spPr>
          <a:xfrm>
            <a:off x="900000" y="1917720"/>
            <a:ext cx="1028880" cy="1204920"/>
          </a:xfrm>
          <a:prstGeom prst="rect">
            <a:avLst/>
          </a:prstGeom>
          <a:ln w="0">
            <a:noFill/>
          </a:ln>
        </p:spPr>
      </p:pic>
      <p:pic>
        <p:nvPicPr>
          <p:cNvPr id="1092" name="内容占位符 8197" descr="10023-11050Q50U563[1]"/>
          <p:cNvPicPr/>
          <p:nvPr/>
        </p:nvPicPr>
        <p:blipFill>
          <a:blip r:embed="rId4"/>
          <a:stretch/>
        </p:blipFill>
        <p:spPr>
          <a:xfrm>
            <a:off x="755640" y="4008600"/>
            <a:ext cx="1295280" cy="1152360"/>
          </a:xfrm>
          <a:prstGeom prst="rect">
            <a:avLst/>
          </a:prstGeom>
          <a:ln w="0">
            <a:noFill/>
          </a:ln>
        </p:spPr>
      </p:pic>
      <p:pic>
        <p:nvPicPr>
          <p:cNvPr id="1093" name="图片 8198" descr="10023-11050Q50U563[1]"/>
          <p:cNvPicPr/>
          <p:nvPr/>
        </p:nvPicPr>
        <p:blipFill>
          <a:blip r:embed="rId5"/>
          <a:stretch/>
        </p:blipFill>
        <p:spPr>
          <a:xfrm>
            <a:off x="2268360" y="4005360"/>
            <a:ext cx="1295640" cy="1152360"/>
          </a:xfrm>
          <a:prstGeom prst="rect">
            <a:avLst/>
          </a:prstGeom>
          <a:ln w="0">
            <a:noFill/>
          </a:ln>
        </p:spPr>
      </p:pic>
      <p:pic>
        <p:nvPicPr>
          <p:cNvPr id="1094" name="图片 8199" descr="10023-11050Q50U563[1]"/>
          <p:cNvPicPr/>
          <p:nvPr/>
        </p:nvPicPr>
        <p:blipFill>
          <a:blip r:embed="rId6"/>
          <a:stretch/>
        </p:blipFill>
        <p:spPr>
          <a:xfrm>
            <a:off x="3635280" y="4005360"/>
            <a:ext cx="1298520" cy="1152360"/>
          </a:xfrm>
          <a:prstGeom prst="rect">
            <a:avLst/>
          </a:prstGeom>
          <a:ln w="0">
            <a:noFill/>
          </a:ln>
        </p:spPr>
      </p:pic>
      <p:sp>
        <p:nvSpPr>
          <p:cNvPr id="1095" name="矩形 8200"/>
          <p:cNvSpPr/>
          <p:nvPr/>
        </p:nvSpPr>
        <p:spPr>
          <a:xfrm>
            <a:off x="898560" y="2997360"/>
            <a:ext cx="108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. .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矩形 8201"/>
          <p:cNvSpPr/>
          <p:nvPr/>
        </p:nvSpPr>
        <p:spPr>
          <a:xfrm>
            <a:off x="3708360" y="2997360"/>
            <a:ext cx="10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. .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矩形 8202"/>
          <p:cNvSpPr/>
          <p:nvPr/>
        </p:nvSpPr>
        <p:spPr>
          <a:xfrm>
            <a:off x="2266920" y="2997360"/>
            <a:ext cx="108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. .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矩形 8203"/>
          <p:cNvSpPr/>
          <p:nvPr/>
        </p:nvSpPr>
        <p:spPr>
          <a:xfrm>
            <a:off x="6948360" y="3789360"/>
            <a:ext cx="115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图片 8204" descr="10023-11050Q50U563[1]"/>
          <p:cNvPicPr/>
          <p:nvPr/>
        </p:nvPicPr>
        <p:blipFill>
          <a:blip r:embed="rId7"/>
          <a:stretch/>
        </p:blipFill>
        <p:spPr>
          <a:xfrm>
            <a:off x="5292720" y="4076640"/>
            <a:ext cx="1295280" cy="1152720"/>
          </a:xfrm>
          <a:prstGeom prst="rect">
            <a:avLst/>
          </a:prstGeom>
          <a:ln w="0">
            <a:noFill/>
          </a:ln>
        </p:spPr>
      </p:pic>
      <p:grpSp>
        <p:nvGrpSpPr>
          <p:cNvPr id="1100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101" name="圆角矩形 5" descr=""/>
            <p:cNvPicPr/>
            <p:nvPr/>
          </p:nvPicPr>
          <p:blipFill>
            <a:blip r:embed="rId8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2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103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4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6" name="椭圆 30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31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33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圆角矩形 34" descr=""/>
              <p:cNvPicPr/>
              <p:nvPr/>
            </p:nvPicPr>
            <p:blipFill>
              <a:blip r:embed="rId14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"/>
                            </p:stCondLst>
                            <p:childTnLst>
                              <p:par>
                                <p:cTn id="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"/>
                            </p:stCondLst>
                            <p:childTnLst>
                              <p:par>
                                <p:cTn id="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"/>
                            </p:stCondLst>
                            <p:childTnLst>
                              <p:par>
                                <p:cTn id="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TextBox 3"/>
          <p:cNvSpPr/>
          <p:nvPr/>
        </p:nvSpPr>
        <p:spPr>
          <a:xfrm>
            <a:off x="468360" y="128592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摆一摆，同桌合作摆出下面同样多的物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组合 9218"/>
          <p:cNvGrpSpPr/>
          <p:nvPr/>
        </p:nvGrpSpPr>
        <p:grpSpPr>
          <a:xfrm>
            <a:off x="4411440" y="2367000"/>
            <a:ext cx="939960" cy="1180440"/>
            <a:chOff x="4411440" y="2367000"/>
            <a:chExt cx="939960" cy="1180440"/>
          </a:xfrm>
        </p:grpSpPr>
        <p:grpSp>
          <p:nvGrpSpPr>
            <p:cNvPr id="1113" name="组合 9219"/>
            <p:cNvGrpSpPr/>
            <p:nvPr/>
          </p:nvGrpSpPr>
          <p:grpSpPr>
            <a:xfrm>
              <a:off x="4467960" y="2367000"/>
              <a:ext cx="883440" cy="473400"/>
              <a:chOff x="4467960" y="2367000"/>
              <a:chExt cx="883440" cy="473400"/>
            </a:xfrm>
          </p:grpSpPr>
          <p:pic>
            <p:nvPicPr>
              <p:cNvPr id="1114" name="内容占位符 9220" descr="5196670_150234204140_2[1]"/>
              <p:cNvPicPr/>
              <p:nvPr/>
            </p:nvPicPr>
            <p:blipFill>
              <a:blip r:embed="rId1"/>
              <a:stretch/>
            </p:blipFill>
            <p:spPr>
              <a:xfrm>
                <a:off x="4914360" y="2367000"/>
                <a:ext cx="120600" cy="47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图片 9221" descr="5196670_150234204140_2[1]"/>
              <p:cNvPicPr/>
              <p:nvPr/>
            </p:nvPicPr>
            <p:blipFill>
              <a:blip r:embed="rId2"/>
              <a:stretch/>
            </p:blipFill>
            <p:spPr>
              <a:xfrm>
                <a:off x="5063040" y="2367000"/>
                <a:ext cx="120600" cy="47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6" name="图片 9222" descr="5196670_150234204140_2[1]"/>
              <p:cNvPicPr/>
              <p:nvPr/>
            </p:nvPicPr>
            <p:blipFill>
              <a:blip r:embed="rId3"/>
              <a:stretch/>
            </p:blipFill>
            <p:spPr>
              <a:xfrm>
                <a:off x="4765320" y="2367000"/>
                <a:ext cx="120600" cy="47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7" name="图片 9223" descr="5196670_150234204140_2[1]"/>
              <p:cNvPicPr/>
              <p:nvPr/>
            </p:nvPicPr>
            <p:blipFill>
              <a:blip r:embed="rId4"/>
              <a:stretch/>
            </p:blipFill>
            <p:spPr>
              <a:xfrm>
                <a:off x="4607280" y="2368440"/>
                <a:ext cx="120600" cy="47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8" name="图片 9224" descr="5196670_150234204140_2[1]"/>
              <p:cNvPicPr/>
              <p:nvPr/>
            </p:nvPicPr>
            <p:blipFill>
              <a:blip r:embed="rId5"/>
              <a:stretch/>
            </p:blipFill>
            <p:spPr>
              <a:xfrm>
                <a:off x="4467960" y="2368440"/>
                <a:ext cx="120600" cy="47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9" name="图片 9225" descr="5196670_150234204140_2[1]"/>
              <p:cNvPicPr/>
              <p:nvPr/>
            </p:nvPicPr>
            <p:blipFill>
              <a:blip r:embed="rId6"/>
              <a:stretch/>
            </p:blipFill>
            <p:spPr>
              <a:xfrm>
                <a:off x="5230800" y="2367000"/>
                <a:ext cx="120600" cy="472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20" name="图片 9226" descr="u=3659299176,4113434004&amp;fm=23&amp;gp=0[1]"/>
            <p:cNvPicPr/>
            <p:nvPr/>
          </p:nvPicPr>
          <p:blipFill>
            <a:blip r:embed="rId7"/>
            <a:stretch/>
          </p:blipFill>
          <p:spPr>
            <a:xfrm rot="10680000">
              <a:off x="4417920" y="3142440"/>
              <a:ext cx="140400" cy="3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图片 9227" descr="u=3659299176,4113434004&amp;fm=23&amp;gp=0[1]"/>
            <p:cNvPicPr/>
            <p:nvPr/>
          </p:nvPicPr>
          <p:blipFill>
            <a:blip r:embed="rId8"/>
            <a:stretch/>
          </p:blipFill>
          <p:spPr>
            <a:xfrm rot="10680000">
              <a:off x="4764960" y="3142440"/>
              <a:ext cx="140400" cy="3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图片 9228" descr="u=3659299176,4113434004&amp;fm=23&amp;gp=0[1]"/>
            <p:cNvPicPr/>
            <p:nvPr/>
          </p:nvPicPr>
          <p:blipFill>
            <a:blip r:embed="rId9"/>
            <a:stretch/>
          </p:blipFill>
          <p:spPr>
            <a:xfrm rot="10680000">
              <a:off x="4585680" y="3142440"/>
              <a:ext cx="140400" cy="3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图片 9229" descr="u=3659299176,4113434004&amp;fm=23&amp;gp=0[1]"/>
            <p:cNvPicPr/>
            <p:nvPr/>
          </p:nvPicPr>
          <p:blipFill>
            <a:blip r:embed="rId10"/>
            <a:stretch/>
          </p:blipFill>
          <p:spPr>
            <a:xfrm rot="10680000">
              <a:off x="5122080" y="3175560"/>
              <a:ext cx="140400" cy="3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图片 9230" descr="u=3659299176,4113434004&amp;fm=23&amp;gp=0[1]"/>
            <p:cNvPicPr/>
            <p:nvPr/>
          </p:nvPicPr>
          <p:blipFill>
            <a:blip r:embed="rId11"/>
            <a:stretch/>
          </p:blipFill>
          <p:spPr>
            <a:xfrm rot="10680000">
              <a:off x="4943520" y="3142440"/>
              <a:ext cx="140400" cy="36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5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126" name="圆角矩形 5" descr=""/>
            <p:cNvPicPr/>
            <p:nvPr/>
          </p:nvPicPr>
          <p:blipFill>
            <a:blip r:embed="rId12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7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128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9" name="椭圆 13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0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1" name="椭圆 30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圆角矩形 31" descr=""/>
              <p:cNvPicPr/>
              <p:nvPr/>
            </p:nvPicPr>
            <p:blipFill>
              <a:blip r:embed="rId15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3" name="圆角矩形 32" descr=""/>
              <p:cNvPicPr/>
              <p:nvPr/>
            </p:nvPicPr>
            <p:blipFill>
              <a:blip r:embed="rId16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4" name="圆角矩形 33" descr=""/>
              <p:cNvPicPr/>
              <p:nvPr/>
            </p:nvPicPr>
            <p:blipFill>
              <a:blip r:embed="rId17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圆角矩形 34" descr=""/>
              <p:cNvPicPr/>
              <p:nvPr/>
            </p:nvPicPr>
            <p:blipFill>
              <a:blip r:embed="rId18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6" name="文本框 9231"/>
          <p:cNvSpPr/>
          <p:nvPr/>
        </p:nvSpPr>
        <p:spPr>
          <a:xfrm>
            <a:off x="461880" y="136440"/>
            <a:ext cx="4052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  <a:ea typeface="宋体"/>
              </a:rPr>
              <a:t>三、巩固运用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图片 9229" descr="u=3659299176,4113434004&amp;fm=23&amp;gp=0[1]"/>
          <p:cNvPicPr/>
          <p:nvPr/>
        </p:nvPicPr>
        <p:blipFill>
          <a:blip r:embed="rId19"/>
          <a:stretch/>
        </p:blipFill>
        <p:spPr>
          <a:xfrm rot="10680000">
            <a:off x="7416360" y="4381200"/>
            <a:ext cx="1087560" cy="92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圆角矩形 11"/>
          <p:cNvSpPr/>
          <p:nvPr/>
        </p:nvSpPr>
        <p:spPr>
          <a:xfrm>
            <a:off x="466560" y="1917720"/>
            <a:ext cx="1800360" cy="149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内容占位符 15362" descr="小鸭子"/>
          <p:cNvPicPr/>
          <p:nvPr/>
        </p:nvPicPr>
        <p:blipFill>
          <a:blip r:embed="rId1"/>
          <a:stretch/>
        </p:blipFill>
        <p:spPr>
          <a:xfrm>
            <a:off x="539640" y="2060640"/>
            <a:ext cx="1497240" cy="1082520"/>
          </a:xfrm>
          <a:prstGeom prst="rect">
            <a:avLst/>
          </a:prstGeom>
          <a:ln w="0">
            <a:noFill/>
          </a:ln>
        </p:spPr>
      </p:pic>
      <p:sp>
        <p:nvSpPr>
          <p:cNvPr id="1140" name="圆角矩形 11"/>
          <p:cNvSpPr/>
          <p:nvPr/>
        </p:nvSpPr>
        <p:spPr>
          <a:xfrm>
            <a:off x="4788000" y="1917720"/>
            <a:ext cx="1800000" cy="149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圆角矩形 11"/>
          <p:cNvSpPr/>
          <p:nvPr/>
        </p:nvSpPr>
        <p:spPr>
          <a:xfrm>
            <a:off x="2700360" y="1917720"/>
            <a:ext cx="1800360" cy="149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"/>
          <p:cNvSpPr/>
          <p:nvPr/>
        </p:nvSpPr>
        <p:spPr>
          <a:xfrm>
            <a:off x="324000" y="907920"/>
            <a:ext cx="20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连一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4" descr=""/>
          <p:cNvPicPr/>
          <p:nvPr/>
        </p:nvPicPr>
        <p:blipFill>
          <a:blip r:embed="rId2"/>
          <a:stretch/>
        </p:blipFill>
        <p:spPr>
          <a:xfrm>
            <a:off x="3348000" y="2492280"/>
            <a:ext cx="517680" cy="514440"/>
          </a:xfrm>
          <a:prstGeom prst="rect">
            <a:avLst/>
          </a:prstGeom>
          <a:ln w="0">
            <a:noFill/>
          </a:ln>
        </p:spPr>
      </p:pic>
      <p:sp>
        <p:nvSpPr>
          <p:cNvPr id="1144" name="圆角矩形 19"/>
          <p:cNvSpPr/>
          <p:nvPr/>
        </p:nvSpPr>
        <p:spPr>
          <a:xfrm>
            <a:off x="641520" y="4935600"/>
            <a:ext cx="1785600" cy="1000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圆角矩形 20"/>
          <p:cNvSpPr/>
          <p:nvPr/>
        </p:nvSpPr>
        <p:spPr>
          <a:xfrm>
            <a:off x="2784600" y="4935600"/>
            <a:ext cx="1785960" cy="1000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圆角矩形 21"/>
          <p:cNvSpPr/>
          <p:nvPr/>
        </p:nvSpPr>
        <p:spPr>
          <a:xfrm>
            <a:off x="4927680" y="4935600"/>
            <a:ext cx="1785960" cy="1000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圆角矩形 22"/>
          <p:cNvSpPr/>
          <p:nvPr/>
        </p:nvSpPr>
        <p:spPr>
          <a:xfrm>
            <a:off x="6927840" y="4935600"/>
            <a:ext cx="1785960" cy="1000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椭圆 23"/>
          <p:cNvSpPr/>
          <p:nvPr/>
        </p:nvSpPr>
        <p:spPr>
          <a:xfrm>
            <a:off x="816120" y="509256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椭圆 24"/>
          <p:cNvSpPr/>
          <p:nvPr/>
        </p:nvSpPr>
        <p:spPr>
          <a:xfrm>
            <a:off x="1101600" y="5092560"/>
            <a:ext cx="21456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椭圆 25"/>
          <p:cNvSpPr/>
          <p:nvPr/>
        </p:nvSpPr>
        <p:spPr>
          <a:xfrm>
            <a:off x="1387440" y="509256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椭圆 26"/>
          <p:cNvSpPr/>
          <p:nvPr/>
        </p:nvSpPr>
        <p:spPr>
          <a:xfrm>
            <a:off x="1673280" y="509256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椭圆 27"/>
          <p:cNvSpPr/>
          <p:nvPr/>
        </p:nvSpPr>
        <p:spPr>
          <a:xfrm>
            <a:off x="2030400" y="509256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椭圆 28"/>
          <p:cNvSpPr/>
          <p:nvPr/>
        </p:nvSpPr>
        <p:spPr>
          <a:xfrm>
            <a:off x="3030480" y="509256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椭圆 29"/>
          <p:cNvSpPr/>
          <p:nvPr/>
        </p:nvSpPr>
        <p:spPr>
          <a:xfrm>
            <a:off x="3387600" y="5092560"/>
            <a:ext cx="21456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椭圆 30"/>
          <p:cNvSpPr/>
          <p:nvPr/>
        </p:nvSpPr>
        <p:spPr>
          <a:xfrm>
            <a:off x="5173560" y="5092560"/>
            <a:ext cx="21456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椭圆 31"/>
          <p:cNvSpPr/>
          <p:nvPr/>
        </p:nvSpPr>
        <p:spPr>
          <a:xfrm>
            <a:off x="5452920" y="5086440"/>
            <a:ext cx="214560" cy="21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椭圆 32"/>
          <p:cNvSpPr/>
          <p:nvPr/>
        </p:nvSpPr>
        <p:spPr>
          <a:xfrm>
            <a:off x="5738760" y="5086440"/>
            <a:ext cx="214200" cy="21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椭圆 33"/>
          <p:cNvSpPr/>
          <p:nvPr/>
        </p:nvSpPr>
        <p:spPr>
          <a:xfrm>
            <a:off x="6024600" y="5086440"/>
            <a:ext cx="214200" cy="21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椭圆 34"/>
          <p:cNvSpPr/>
          <p:nvPr/>
        </p:nvSpPr>
        <p:spPr>
          <a:xfrm>
            <a:off x="6310440" y="5086440"/>
            <a:ext cx="214200" cy="21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椭圆 35"/>
          <p:cNvSpPr/>
          <p:nvPr/>
        </p:nvSpPr>
        <p:spPr>
          <a:xfrm>
            <a:off x="7095960" y="5157720"/>
            <a:ext cx="214560" cy="21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椭圆 36"/>
          <p:cNvSpPr/>
          <p:nvPr/>
        </p:nvSpPr>
        <p:spPr>
          <a:xfrm>
            <a:off x="7381800" y="5157720"/>
            <a:ext cx="214560" cy="21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椭圆 37"/>
          <p:cNvSpPr/>
          <p:nvPr/>
        </p:nvSpPr>
        <p:spPr>
          <a:xfrm>
            <a:off x="7667640" y="5157720"/>
            <a:ext cx="214200" cy="21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椭圆 38"/>
          <p:cNvSpPr/>
          <p:nvPr/>
        </p:nvSpPr>
        <p:spPr>
          <a:xfrm>
            <a:off x="7927920" y="5149800"/>
            <a:ext cx="214200" cy="21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椭圆 39"/>
          <p:cNvSpPr/>
          <p:nvPr/>
        </p:nvSpPr>
        <p:spPr>
          <a:xfrm>
            <a:off x="5167440" y="5443560"/>
            <a:ext cx="214200" cy="21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直接连接符 41"/>
          <p:cNvSpPr/>
          <p:nvPr/>
        </p:nvSpPr>
        <p:spPr>
          <a:xfrm>
            <a:off x="1870200" y="3718080"/>
            <a:ext cx="1285920" cy="928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直接连接符 42"/>
          <p:cNvSpPr/>
          <p:nvPr/>
        </p:nvSpPr>
        <p:spPr>
          <a:xfrm flipH="1">
            <a:off x="1476360" y="3859920"/>
            <a:ext cx="1892160" cy="785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直接连接符 46"/>
          <p:cNvSpPr/>
          <p:nvPr/>
        </p:nvSpPr>
        <p:spPr>
          <a:xfrm>
            <a:off x="6010200" y="3789360"/>
            <a:ext cx="1285920" cy="9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直接连接符 47"/>
          <p:cNvSpPr/>
          <p:nvPr/>
        </p:nvSpPr>
        <p:spPr>
          <a:xfrm flipH="1">
            <a:off x="5724000" y="3789360"/>
            <a:ext cx="1785960" cy="9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圆角矩形 11"/>
          <p:cNvSpPr/>
          <p:nvPr/>
        </p:nvSpPr>
        <p:spPr>
          <a:xfrm>
            <a:off x="6804000" y="1917720"/>
            <a:ext cx="1800360" cy="149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0" name="Picture 4" descr=""/>
          <p:cNvPicPr/>
          <p:nvPr/>
        </p:nvPicPr>
        <p:blipFill>
          <a:blip r:embed="rId3"/>
          <a:stretch/>
        </p:blipFill>
        <p:spPr>
          <a:xfrm>
            <a:off x="2844720" y="2795760"/>
            <a:ext cx="503280" cy="50004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" descr=""/>
          <p:cNvPicPr/>
          <p:nvPr/>
        </p:nvPicPr>
        <p:blipFill>
          <a:blip r:embed="rId4"/>
          <a:stretch/>
        </p:blipFill>
        <p:spPr>
          <a:xfrm>
            <a:off x="2844720" y="2133720"/>
            <a:ext cx="503280" cy="5000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" descr=""/>
          <p:cNvPicPr/>
          <p:nvPr/>
        </p:nvPicPr>
        <p:blipFill>
          <a:blip r:embed="rId5"/>
          <a:stretch/>
        </p:blipFill>
        <p:spPr>
          <a:xfrm>
            <a:off x="3780000" y="2133720"/>
            <a:ext cx="502920" cy="50004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4" descr=""/>
          <p:cNvPicPr/>
          <p:nvPr/>
        </p:nvPicPr>
        <p:blipFill>
          <a:blip r:embed="rId6"/>
          <a:stretch/>
        </p:blipFill>
        <p:spPr>
          <a:xfrm>
            <a:off x="3851280" y="2781360"/>
            <a:ext cx="504720" cy="500040"/>
          </a:xfrm>
          <a:prstGeom prst="rect">
            <a:avLst/>
          </a:prstGeom>
          <a:ln w="0">
            <a:noFill/>
          </a:ln>
        </p:spPr>
      </p:pic>
      <p:pic>
        <p:nvPicPr>
          <p:cNvPr id="1174" name="内容占位符 15397" descr="小马"/>
          <p:cNvPicPr/>
          <p:nvPr/>
        </p:nvPicPr>
        <p:blipFill>
          <a:blip r:embed="rId7"/>
          <a:stretch/>
        </p:blipFill>
        <p:spPr>
          <a:xfrm>
            <a:off x="5724360" y="1989000"/>
            <a:ext cx="708120" cy="649440"/>
          </a:xfrm>
          <a:prstGeom prst="rect">
            <a:avLst/>
          </a:prstGeom>
          <a:ln w="0">
            <a:noFill/>
          </a:ln>
        </p:spPr>
      </p:pic>
      <p:pic>
        <p:nvPicPr>
          <p:cNvPr id="1175" name="内容占位符 15398" descr="小马"/>
          <p:cNvPicPr/>
          <p:nvPr/>
        </p:nvPicPr>
        <p:blipFill>
          <a:blip r:embed="rId8"/>
          <a:stretch/>
        </p:blipFill>
        <p:spPr>
          <a:xfrm>
            <a:off x="5651640" y="2709720"/>
            <a:ext cx="709560" cy="648000"/>
          </a:xfrm>
          <a:prstGeom prst="rect">
            <a:avLst/>
          </a:prstGeom>
          <a:ln w="0">
            <a:noFill/>
          </a:ln>
        </p:spPr>
      </p:pic>
      <p:pic>
        <p:nvPicPr>
          <p:cNvPr id="1176" name="图片 15399" descr="小马"/>
          <p:cNvPicPr/>
          <p:nvPr/>
        </p:nvPicPr>
        <p:blipFill>
          <a:blip r:embed="rId9"/>
          <a:stretch/>
        </p:blipFill>
        <p:spPr>
          <a:xfrm>
            <a:off x="4932360" y="1989000"/>
            <a:ext cx="708120" cy="648000"/>
          </a:xfrm>
          <a:prstGeom prst="rect">
            <a:avLst/>
          </a:prstGeom>
          <a:ln w="0">
            <a:noFill/>
          </a:ln>
        </p:spPr>
      </p:pic>
      <p:pic>
        <p:nvPicPr>
          <p:cNvPr id="1177" name="图片 15400" descr="小马"/>
          <p:cNvPicPr/>
          <p:nvPr/>
        </p:nvPicPr>
        <p:blipFill>
          <a:blip r:embed="rId10"/>
          <a:stretch/>
        </p:blipFill>
        <p:spPr>
          <a:xfrm>
            <a:off x="4932360" y="2708280"/>
            <a:ext cx="708120" cy="647640"/>
          </a:xfrm>
          <a:prstGeom prst="rect">
            <a:avLst/>
          </a:prstGeom>
          <a:ln w="0">
            <a:noFill/>
          </a:ln>
        </p:spPr>
      </p:pic>
      <p:pic>
        <p:nvPicPr>
          <p:cNvPr id="1178" name="图片 15401" descr="小花"/>
          <p:cNvPicPr/>
          <p:nvPr/>
        </p:nvPicPr>
        <p:blipFill>
          <a:blip r:embed="rId11"/>
          <a:stretch/>
        </p:blipFill>
        <p:spPr>
          <a:xfrm>
            <a:off x="6877080" y="2060640"/>
            <a:ext cx="503280" cy="691920"/>
          </a:xfrm>
          <a:prstGeom prst="rect">
            <a:avLst/>
          </a:prstGeom>
          <a:ln w="0">
            <a:noFill/>
          </a:ln>
        </p:spPr>
      </p:pic>
      <p:pic>
        <p:nvPicPr>
          <p:cNvPr id="1179" name="图片 15402" descr="小花"/>
          <p:cNvPicPr/>
          <p:nvPr/>
        </p:nvPicPr>
        <p:blipFill>
          <a:blip r:embed="rId12"/>
          <a:stretch/>
        </p:blipFill>
        <p:spPr>
          <a:xfrm>
            <a:off x="7451640" y="2060640"/>
            <a:ext cx="505080" cy="691920"/>
          </a:xfrm>
          <a:prstGeom prst="rect">
            <a:avLst/>
          </a:prstGeom>
          <a:ln w="0">
            <a:noFill/>
          </a:ln>
        </p:spPr>
      </p:pic>
      <p:pic>
        <p:nvPicPr>
          <p:cNvPr id="1180" name="图片 15403" descr="小花"/>
          <p:cNvPicPr/>
          <p:nvPr/>
        </p:nvPicPr>
        <p:blipFill>
          <a:blip r:embed="rId13"/>
          <a:stretch/>
        </p:blipFill>
        <p:spPr>
          <a:xfrm>
            <a:off x="8029440" y="206208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181" name="图片 15404" descr="小花"/>
          <p:cNvPicPr/>
          <p:nvPr/>
        </p:nvPicPr>
        <p:blipFill>
          <a:blip r:embed="rId14"/>
          <a:stretch/>
        </p:blipFill>
        <p:spPr>
          <a:xfrm>
            <a:off x="6877080" y="2638440"/>
            <a:ext cx="471600" cy="647640"/>
          </a:xfrm>
          <a:prstGeom prst="rect">
            <a:avLst/>
          </a:prstGeom>
          <a:ln w="0">
            <a:noFill/>
          </a:ln>
        </p:spPr>
      </p:pic>
      <p:pic>
        <p:nvPicPr>
          <p:cNvPr id="1182" name="图片 15405" descr="小花"/>
          <p:cNvPicPr/>
          <p:nvPr/>
        </p:nvPicPr>
        <p:blipFill>
          <a:blip r:embed="rId15"/>
          <a:stretch/>
        </p:blipFill>
        <p:spPr>
          <a:xfrm>
            <a:off x="7451640" y="2638440"/>
            <a:ext cx="471600" cy="647640"/>
          </a:xfrm>
          <a:prstGeom prst="rect">
            <a:avLst/>
          </a:prstGeom>
          <a:ln w="0">
            <a:noFill/>
          </a:ln>
        </p:spPr>
      </p:pic>
      <p:pic>
        <p:nvPicPr>
          <p:cNvPr id="1183" name="图片 15406" descr="小花"/>
          <p:cNvPicPr/>
          <p:nvPr/>
        </p:nvPicPr>
        <p:blipFill>
          <a:blip r:embed="rId16"/>
          <a:stretch/>
        </p:blipFill>
        <p:spPr>
          <a:xfrm>
            <a:off x="8029440" y="2638440"/>
            <a:ext cx="471600" cy="647640"/>
          </a:xfrm>
          <a:prstGeom prst="rect">
            <a:avLst/>
          </a:prstGeom>
          <a:ln w="0">
            <a:noFill/>
          </a:ln>
        </p:spPr>
      </p:pic>
      <p:grpSp>
        <p:nvGrpSpPr>
          <p:cNvPr id="1184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185" name="圆角矩形 5" descr=""/>
            <p:cNvPicPr/>
            <p:nvPr/>
          </p:nvPicPr>
          <p:blipFill>
            <a:blip r:embed="rId17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6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187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8" name="椭圆 13" descr=""/>
              <p:cNvPicPr/>
              <p:nvPr/>
            </p:nvPicPr>
            <p:blipFill>
              <a:blip r:embed="rId18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9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0" name="椭圆 30" descr=""/>
              <p:cNvPicPr/>
              <p:nvPr/>
            </p:nvPicPr>
            <p:blipFill>
              <a:blip r:embed="rId19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圆角矩形 31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2" name="圆角矩形 32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3" name="圆角矩形 33" descr=""/>
              <p:cNvPicPr/>
              <p:nvPr/>
            </p:nvPicPr>
            <p:blipFill>
              <a:blip r:embed="rId22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4" name="圆角矩形 34" descr=""/>
              <p:cNvPicPr/>
              <p:nvPr/>
            </p:nvPicPr>
            <p:blipFill>
              <a:blip r:embed="rId23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" name="组合 14337"/>
          <p:cNvGrpSpPr/>
          <p:nvPr/>
        </p:nvGrpSpPr>
        <p:grpSpPr>
          <a:xfrm>
            <a:off x="1366920" y="4175280"/>
            <a:ext cx="907920" cy="973080"/>
            <a:chOff x="1366920" y="4175280"/>
            <a:chExt cx="907920" cy="973080"/>
          </a:xfrm>
        </p:grpSpPr>
        <p:pic>
          <p:nvPicPr>
            <p:cNvPr id="1196" name="内容占位符 14338" descr="小动物1"/>
            <p:cNvPicPr/>
            <p:nvPr/>
          </p:nvPicPr>
          <p:blipFill>
            <a:blip r:embed="rId1"/>
            <a:stretch/>
          </p:blipFill>
          <p:spPr>
            <a:xfrm>
              <a:off x="1502280" y="4770720"/>
              <a:ext cx="10980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图片 14339" descr="小羊"/>
            <p:cNvPicPr/>
            <p:nvPr/>
          </p:nvPicPr>
          <p:blipFill>
            <a:blip r:embed="rId2"/>
            <a:stretch/>
          </p:blipFill>
          <p:spPr>
            <a:xfrm>
              <a:off x="1824120" y="4201920"/>
              <a:ext cx="145800" cy="38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图片 14340" descr="小羊"/>
            <p:cNvPicPr/>
            <p:nvPr/>
          </p:nvPicPr>
          <p:blipFill>
            <a:blip r:embed="rId3"/>
            <a:stretch/>
          </p:blipFill>
          <p:spPr>
            <a:xfrm>
              <a:off x="1671480" y="4201920"/>
              <a:ext cx="145800" cy="38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图片 14341" descr="小羊"/>
            <p:cNvPicPr/>
            <p:nvPr/>
          </p:nvPicPr>
          <p:blipFill>
            <a:blip r:embed="rId4"/>
            <a:stretch/>
          </p:blipFill>
          <p:spPr>
            <a:xfrm>
              <a:off x="1519200" y="4201920"/>
              <a:ext cx="145800" cy="38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图片 14342" descr="小羊"/>
            <p:cNvPicPr/>
            <p:nvPr/>
          </p:nvPicPr>
          <p:blipFill>
            <a:blip r:embed="rId5"/>
            <a:stretch/>
          </p:blipFill>
          <p:spPr>
            <a:xfrm>
              <a:off x="1366920" y="4175280"/>
              <a:ext cx="145800" cy="38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图片 14343" descr="小羊"/>
            <p:cNvPicPr/>
            <p:nvPr/>
          </p:nvPicPr>
          <p:blipFill>
            <a:blip r:embed="rId6"/>
            <a:stretch/>
          </p:blipFill>
          <p:spPr>
            <a:xfrm>
              <a:off x="1976400" y="4201920"/>
              <a:ext cx="145800" cy="38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图片 14344" descr="小羊"/>
            <p:cNvPicPr/>
            <p:nvPr/>
          </p:nvPicPr>
          <p:blipFill>
            <a:blip r:embed="rId7"/>
            <a:stretch/>
          </p:blipFill>
          <p:spPr>
            <a:xfrm>
              <a:off x="2129040" y="4201920"/>
              <a:ext cx="145800" cy="38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图片 14345" descr="小动物1"/>
            <p:cNvPicPr/>
            <p:nvPr/>
          </p:nvPicPr>
          <p:blipFill>
            <a:blip r:embed="rId8"/>
            <a:stretch/>
          </p:blipFill>
          <p:spPr>
            <a:xfrm>
              <a:off x="2018880" y="4770720"/>
              <a:ext cx="10980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图片 14346" descr="小动物1"/>
            <p:cNvPicPr/>
            <p:nvPr/>
          </p:nvPicPr>
          <p:blipFill>
            <a:blip r:embed="rId9"/>
            <a:stretch/>
          </p:blipFill>
          <p:spPr>
            <a:xfrm>
              <a:off x="1883520" y="4770720"/>
              <a:ext cx="10980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图片 14347" descr="小动物1"/>
            <p:cNvPicPr/>
            <p:nvPr/>
          </p:nvPicPr>
          <p:blipFill>
            <a:blip r:embed="rId10"/>
            <a:stretch/>
          </p:blipFill>
          <p:spPr>
            <a:xfrm>
              <a:off x="1756440" y="4770720"/>
              <a:ext cx="10980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图片 14348" descr="小动物1"/>
            <p:cNvPicPr/>
            <p:nvPr/>
          </p:nvPicPr>
          <p:blipFill>
            <a:blip r:embed="rId11"/>
            <a:stretch/>
          </p:blipFill>
          <p:spPr>
            <a:xfrm>
              <a:off x="1629360" y="4770720"/>
              <a:ext cx="10980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图片 14349" descr="小动物1"/>
            <p:cNvPicPr/>
            <p:nvPr/>
          </p:nvPicPr>
          <p:blipFill>
            <a:blip r:embed="rId12"/>
            <a:stretch/>
          </p:blipFill>
          <p:spPr>
            <a:xfrm>
              <a:off x="1375200" y="4770720"/>
              <a:ext cx="10980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图片 14350" descr="小动物1"/>
            <p:cNvPicPr/>
            <p:nvPr/>
          </p:nvPicPr>
          <p:blipFill>
            <a:blip r:embed="rId13"/>
            <a:stretch/>
          </p:blipFill>
          <p:spPr>
            <a:xfrm>
              <a:off x="2154600" y="4770720"/>
              <a:ext cx="109800" cy="37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9" name="组合 14351"/>
          <p:cNvGrpSpPr/>
          <p:nvPr/>
        </p:nvGrpSpPr>
        <p:grpSpPr>
          <a:xfrm>
            <a:off x="8317080" y="2997360"/>
            <a:ext cx="502920" cy="1944360"/>
            <a:chOff x="8317080" y="2997360"/>
            <a:chExt cx="502920" cy="1944360"/>
          </a:xfrm>
        </p:grpSpPr>
        <p:sp>
          <p:nvSpPr>
            <p:cNvPr id="1210" name="矩形 14352"/>
            <p:cNvSpPr/>
            <p:nvPr/>
          </p:nvSpPr>
          <p:spPr>
            <a:xfrm>
              <a:off x="8317080" y="2997360"/>
              <a:ext cx="5029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矩形 14353"/>
            <p:cNvSpPr/>
            <p:nvPr/>
          </p:nvSpPr>
          <p:spPr>
            <a:xfrm>
              <a:off x="8317080" y="4437000"/>
              <a:ext cx="5029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2" name="TextBox 4"/>
          <p:cNvSpPr/>
          <p:nvPr/>
        </p:nvSpPr>
        <p:spPr>
          <a:xfrm>
            <a:off x="395280" y="9810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少的后面画“√ 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文本框 14355"/>
          <p:cNvSpPr/>
          <p:nvPr/>
        </p:nvSpPr>
        <p:spPr>
          <a:xfrm>
            <a:off x="8398080" y="299736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215" name="圆角矩形 5" descr=""/>
            <p:cNvPicPr/>
            <p:nvPr/>
          </p:nvPicPr>
          <p:blipFill>
            <a:blip r:embed="rId14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6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217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8" name="椭圆 13" descr=""/>
              <p:cNvPicPr/>
              <p:nvPr/>
            </p:nvPicPr>
            <p:blipFill>
              <a:blip r:embed="rId15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9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0" name="椭圆 30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1" name="圆角矩形 31" descr=""/>
              <p:cNvPicPr/>
              <p:nvPr/>
            </p:nvPicPr>
            <p:blipFill>
              <a:blip r:embed="rId17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2" name="圆角矩形 32" descr=""/>
              <p:cNvPicPr/>
              <p:nvPr/>
            </p:nvPicPr>
            <p:blipFill>
              <a:blip r:embed="rId18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3" name="圆角矩形 33" descr=""/>
              <p:cNvPicPr/>
              <p:nvPr/>
            </p:nvPicPr>
            <p:blipFill>
              <a:blip r:embed="rId19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4" name="圆角矩形 34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万润仪器贸易公司</cp:lastModifiedBy>
  <dcterms:modified xsi:type="dcterms:W3CDTF">2020-08-18T09:34:39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